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5D1-53F1-45CF-8342-67DDD89F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C1B-DCAA-4E91-ABD0-52EE1AA1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6F7-1D04-4A6E-A5FC-81AEF521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EC0-2CEE-4899-ABA1-55726CCB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170-98E2-4B53-823C-16605B26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EC4-D58C-4998-9377-312C6C8D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9C2-3B88-4BBB-804E-C0236B43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042-498F-4F90-87DD-3C6A8908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A01-B26C-47F2-9574-A534C80C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666-8C36-4D32-B634-D34A0F63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D0B-1CA2-4199-8067-35519CD8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181-FE92-4588-BBBF-D9160A6B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7288-C116-4486-B308-7ECB7F11ABA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Settlement Function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se can be grouped into a number of headings, such as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residential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ecreational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etail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entertainment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industrial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ome settlements have one predominant function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was particularly thecase when settlements were first establishe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ome towns performed important defensive functions, others were ports and others were important route centres for further exploration of a country (such as the gateway cities of Canada e.g. Calgary and Edmonton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ulti-Func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settlements now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lti-functio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which means that they perform a range of different functions, however some may be more important than others to a particular settle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stance a tourist town will perform all sorts of functions, but its main ones are concentrated towards the tour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Happe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ettlements around the world have found that their functions have had to change over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such example is that of small farming villages finding that their residents are moving out to find jobs in the c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Happe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eaves the village empty, apart from the older popul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llage then may become a retirement centre, or commuters may move in and it could become a commuter vill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good examples of the changing functions of a settlement can be seen in Benidorm (Spain) and the South Wales mining tow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0:00:48Z</dcterms:created>
  <dc:creator>Dell_02</dc:creator>
  <dc:description/>
  <dc:language>en-US</dc:language>
  <cp:lastModifiedBy>Dell_02</cp:lastModifiedBy>
  <dcterms:modified xsi:type="dcterms:W3CDTF">2011-01-26T00:41:38Z</dcterms:modified>
  <cp:revision>2</cp:revision>
  <dc:subject/>
  <dc:title>Presentación de PowerPoint</dc:title>
</cp:coreProperties>
</file>